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FA31-21DA-4599-9A61-EEA20671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FFF7-8A77-4FB5-A487-91D6C90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AFA1-D39A-4959-A599-58ABE6CC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C3BC-7D90-440E-911D-60ABE228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BE07-1041-4056-984C-500713C6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7926-8BE2-43CB-AD6F-5867F6C1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CB49-DCFB-4276-8B2A-6E3F2AF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0039-2E20-44D2-B900-7333128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2E95-F589-487E-A7F4-6DA71DA2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70C-0CD2-4E9C-AF15-C1FD83E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2C21-FB8E-4DF9-A3F2-69D6FBB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9358-6956-449A-AD3F-DB831BF1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776-D580-449D-85C8-BC8F768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271C-01AB-4FEF-AD1C-F24E8F2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583F-FCA2-4DEC-8F62-D5B034BB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0A7-C4BC-415A-8C7C-363E5C11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191C-EE01-4B48-9858-05D296FB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12DD-4DA7-4485-BC94-AC31E413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2D81-1522-4894-9AF1-7627C5A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C591-6448-43E2-A0DB-DA86A59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77D8-8AFD-453C-8C6D-CB664AC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BF92-A32F-4173-A5B2-59D226E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087C-ACA7-4752-AF47-AB774A5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ADFE-A72A-4549-89AC-08ABCE5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82A-C356-447F-A7BF-636F6FDE0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89F-C304-4D74-9B82-32EA75543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gyek és tengerek felett,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lyóid zúgják, hogy szeretsz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 én megnyitom szívem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gy gyógyításod szabaddá tegye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Örvendek igazságodo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gasztallak minden napon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örökké éneklek és szereteted áldom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ig csak Rólad énekelnék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4x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zívem ujjong s táncol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m érti a világ.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 amikor meglátnak,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agy öröm lesz majd,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 minden ember táncol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ndig csak Rólad énekelnék!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4x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8534520" y="304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yügyei Tamás</cp:lastModifiedBy>
  <dcterms:modified xsi:type="dcterms:W3CDTF">2005-04-09T11:49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